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32C-F550-4106-A183-583E1A22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05E-00A6-4060-A7D9-F871B67E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E2FA-9794-4168-9DCD-B56A5EE3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93CC-989C-4A8A-864A-FC07D6AF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A2B-E17E-4E94-AE37-599E343D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E76-F6DE-4F3B-B3C1-1DC41E31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70F-79EE-4DFF-81D2-04022675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82F-6ACD-405F-B5F6-AD2E3FA9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FC6-42BC-473B-B9AE-F872A5F7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CDA7-E58E-4300-8FAC-C22158AC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D80-57D4-467E-AD67-7DBB1A61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C0CF-36CB-4D6F-83EA-1708C78F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09B1-0E85-4DB8-8A25-F951A6F98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3645000"/>
            <a:ext cx="8026560" cy="17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редование гласных в корне слов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оценки за урок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карточки успеха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Домашнее задание (на выбор)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Times New Roman"/>
              </a:rPr>
              <a:t>А) Напиши, о каком ещё из семи чудес света ты знаешь. В рассказе употреби слова, где есть корни с чередованием гласных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Times New Roman"/>
              </a:rPr>
              <a:t>Б)  Написать мини-сочинение «Готовлюсь к приходу гостей»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СПАСИБО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                              </a:t>
            </a: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ЗА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                                      </a:t>
            </a: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УРОК!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                  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13840" y="307188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1) повторить и обобщить сведения о русской орфографии как системе правил; 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2) отрабатывать умение различать орфограммы «Безударная гласная в корне слова» и «Гласная в корне с чередованием а/о» и выбирать правильное написание.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633240" y="2139840"/>
            <a:ext cx="824256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. Что изучает фонетика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2. Что вы можете сказать об     орфоэпии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3. Что такое тезис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4. Какое письмо мы называем поморфемным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5. Что мы называем морфемой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324000" y="1920960"/>
            <a:ext cx="8740800" cy="3370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71680" y="3857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Что мы называем чередованием?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42840" y="-1341360"/>
            <a:ext cx="8547120" cy="1609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24000" y="981000"/>
            <a:ext cx="85010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Если после корня – А,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В корне будет И всегда!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Вот пример, запоминай: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Ноги вытер? Вытирай!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3"/>
          <a:srcRect l="18315" t="48829" r="75728" b="45315"/>
          <a:stretch/>
        </p:blipFill>
        <p:spPr>
          <a:xfrm>
            <a:off x="8604360" y="404640"/>
            <a:ext cx="360360" cy="576360"/>
          </a:xfrm>
          <a:prstGeom prst="rect">
            <a:avLst/>
          </a:prstGeom>
          <a:ln w="0">
            <a:noFill/>
          </a:ln>
        </p:spPr>
      </p:pic>
      <p:pic>
        <p:nvPicPr>
          <p:cNvPr id="54" name="Заголовок 1" descr=""/>
          <p:cNvPicPr/>
          <p:nvPr/>
        </p:nvPicPr>
        <p:blipFill>
          <a:blip r:embed="rId4"/>
          <a:stretch/>
        </p:blipFill>
        <p:spPr>
          <a:xfrm>
            <a:off x="-252360" y="-603360"/>
            <a:ext cx="85899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469800" y="-334800"/>
            <a:ext cx="8240760" cy="162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6836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Times New Roman"/>
              </a:rPr>
              <a:t>1.Помочь усвоить новую тему нам поможет интересная девочка. А как её зовут, вы скажете, если будете внимательно слушать стихотворение.</a:t>
            </a:r>
            <a:endParaRPr b="1" lang="en-US" sz="2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Девочка очень аккуратная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Хорошо все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убирает,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Всю грязь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отдирает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Пыль везде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стирает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Шкафы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запирает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Так устает, что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умирает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от усталости.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Но когда сердится, то говорит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"Когда все уберу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Грязь отдеру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Надо пыль стереть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Шкафы запереть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Не хочу! Я так устала, что могу умереть!"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Как зовут девочку?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0004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0253f"/>
                </a:solidFill>
                <a:uFillTx/>
                <a:latin typeface="Times New Roman"/>
              </a:rPr>
              <a:t>убирает,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214200" y="1285920"/>
            <a:ext cx="100872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д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Девочку зовут И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5. Итоги урока. Рефлексия.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С какой темой мы сегодня познаком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Чему мы с вами науч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Что понравилось, запомнилось на уроке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Какие трудности возникли? Что получилось? Что не получило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06:07Z</dcterms:created>
  <dc:creator>Admin</dc:creator>
  <dc:description/>
  <cp:keywords/>
  <dc:language>en-US</dc:language>
  <cp:lastModifiedBy>Пользователь</cp:lastModifiedBy>
  <dcterms:modified xsi:type="dcterms:W3CDTF">2001-12-31T22:11:25Z</dcterms:modified>
  <cp:revision>35</cp:revision>
  <dc:subject/>
  <dc:title>Правописание не с деепричастиями</dc:title>
</cp:coreProperties>
</file>